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42D-DA95-48E8-AF65-2074FDE3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175E-BBE2-4248-9E5E-3CAFD01F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C27-2AE4-4041-9C8D-02150D96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5BB-7A4E-4700-AF21-C8D7C62C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4780-B5B1-4764-B3A7-76C769BE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A220-2E1A-4079-A8D6-B4734DA7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0EB2-B77B-4D45-9BE0-523BF573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56A4-D75B-46D5-80C4-7FCB6579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9DFA-E457-4104-ABFA-62956A4A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1816-93F1-4D4F-B2C8-EBCA1A0D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880B-CDCE-4113-9F3A-8C9FFCB5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7CA-8707-464A-94F6-4D0D061D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FD3F-FDF9-4C70-8578-437BB3DA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19AC-0AA8-4499-B534-1CA51469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8E09-A446-43E4-815F-D2B074A6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38B1-F3F5-417F-B0E4-A92F6688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99E6-AF68-4F95-94FC-A603619C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75A-87AC-46DD-8B45-E54A312B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330-3072-4564-B1F7-295EE2B2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C465-316A-4B5F-8D97-D9411F94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70C1-4DC1-44E0-9086-5FDF9A52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630-870E-4C6B-81E2-AAB76C8A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BCF-55EE-425A-8455-F2B4F83B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E0A-1BA2-4E09-88EF-FF251FAD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2F3D-5C64-4661-8B14-D984DC1152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D5AE-67D7-4D1D-ABDF-E9B6E673E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b7"/>
                </a:solidFill>
                <a:latin typeface="Arial Black"/>
              </a:rPr>
              <a:t>RESULTADOS CUESTIONARIO SOBRE LA SECCIÓN BILINGÜE EN EL I.E.S. SIERRA NEVADA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URSO 2008/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ÑO 0. PRIMER TRIMEST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Arial Black"/>
              </a:rPr>
              <a:t>¿Se asegura de que su hijo hace los deberes diariamente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¿Conoce las actividades extraescolares realizadas por la Sección Bilingüe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¿Cree que el Profesorado de la Sección Bilingüe está suficientemente implicado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Arial Black"/>
              </a:rPr>
              <a:t>¿Qué opinión le merece la presencia de los asistentes lingüísticos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b7"/>
                </a:solidFill>
                <a:latin typeface="Arial Black"/>
              </a:rPr>
              <a:t>¿Cree conveniente la participación de su hijo en actividades de intercambio? (estancia de estudios en el extranjero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Arial Black"/>
              </a:rPr>
              <a:t>¿Conoce los actuales resultados académicos de su hijo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b7"/>
                </a:solidFill>
                <a:latin typeface="Arial Black"/>
              </a:rPr>
              <a:t>¿Conoce si su hijo tiene algún parte de apercibimiento, falta injustificada, problema… 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Arial Black"/>
              </a:rPr>
              <a:t>Opiniones sobre la Sección Bilíngüe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484280"/>
            <a:ext cx="8007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aprendizaje de idiomas es importante para sus estud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ra nuestros hijos es algo nuevo y les cuesta un po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 vienen suficientemente preparados del colegio, pero con el trabajo y esfuerzo de todos, al final los resultados serán muy positiv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 nuestros hijos les cuesta mucho y esto puede hacer que pierdan todo el interés y la motiv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Sabe en qué consiste un Centro Bilingü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1360" y="1908000"/>
          <a:ext cx="8912160" cy="47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908000"/>
                    <a:ext cx="891216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Arial Black"/>
              </a:rPr>
              <a:t>¿Qué asignaturas de áreas no lingüísticas recibe su hijo en dos idiomas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Arial Black"/>
              </a:rPr>
              <a:t>¿Le ha hablado su hijo alguna vez de las clases bilingües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¿Cree que su hijo tiene una actitud positiva hacia estas clases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b7"/>
                </a:solidFill>
                <a:latin typeface="Arial Black"/>
              </a:rPr>
              <a:t>¿Ha observado alguna mejora en la actitud de su hijo hacia el aprendizaje de idiomas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¿Cree que los cambios introducidos en el aula son positivos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Arial Black"/>
              </a:rPr>
              <a:t>¿Ha observado una mejor coordinación del Equipo Educativo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Consulta la agenda escolar de su hij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0:56:01Z</dcterms:created>
  <dc:creator>Profes</dc:creator>
  <dc:description/>
  <dc:language>en-US</dc:language>
  <cp:lastModifiedBy>Profes</cp:lastModifiedBy>
  <dcterms:modified xsi:type="dcterms:W3CDTF">2008-11-27T11:50:14Z</dcterms:modified>
  <cp:revision>11</cp:revision>
  <dc:subject/>
  <dc:title>RESULTADOS CUESTIONARIO SOBRE LA SECCIÓN BILINGÜE EN EL I.E.S. SIERRA NEVADA</dc:title>
</cp:coreProperties>
</file>